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89E7-9AC3-4BCC-B8F3-DAF38475887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硬膜外血肿：血液积聚于硬脑膜和颅骨内板之间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梭型高密度影。临床表现：意识障碍常有中间清醒期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硬膜下血肿：发生率高。病情较重：常合并脑挫裂伤和激发脑水肿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颅骨内板与脑表面下方有新月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半月形高密度或混杂密度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脑内血肿：挫裂伤灶附近或白质深部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圆形、类圆形或不规则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ICP: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颅内压监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Gerstmann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氏综合征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又称左侧角回综合征；优势半球综合征。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因病理病机：主侧半球顶叶与颞叶角回病变，以顶后动脉或角回动脉闭塞常见。亦可见于脑瘤、脑外伤、脑萎缩、酒精中毒、一氧化碳中毒、各种精神病、催眠状态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临床表现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Gerstmann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氏综合征成立的前提为言语理解力和表达能力无障碍、物体和空间的认识保存，无感觉、运动和智能等的障碍。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综合征包括手指认识不能、计算不能、书写不能、左右定向力障碍四个症状。临床上不一定出现典型的四联症，常可见其中的部分症状，或再加上其他症状，如失语、失用、失读、右侧偏盲及忽视，右侧轻偏瘫或痛觉信号失认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史蒂芬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霍金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1942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月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8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日出生于英国的牛津，这是一个特殊的日子，现代科学的奠基人伽利略正是逝世于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300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年前的同一天。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霍金在牛津大学毕业后即到剑桥大学读研究生，这时他被诊断患了“卢伽雷病”，不久，就完全瘫痪了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1985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年，霍金又因肺炎进行了穿气管手术，此后，他完全不能说话，依靠安装在轮椅上的一个小对话机和语言合成器与人进行交谈；看书必须依赖一种翻书页的机器，读文献时需要请人将每一页都摊在大桌子上，然后他驱动轮椅如蚕吃桑叶般地逐页阅读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……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霍金正是在这种一般人难以置信的艰难中，成为世界公认的引力物理科学巨人。霍金在剑桥大学任牛顿曾担任过的卢卡逊数学讲座教授之职，他的黑洞蒸发理论和量子宇宙论不仅震动了自然科学界，并且对哲学和宗教也有深远影响。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从宇宙大爆炸的奇点到黑洞辐射机制，霍金对量子宇宙论的发展作出了杰出的贡献。他的目标是解决从牛顿以来一直困扰人类的“第一推力”问题。他的宇宙模型是一个封闭的无边界的有限的四维时空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——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不需要上帝的第一推力，宇宙的演化完全取决于物理定律。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耐人寻味的是，霍金的宇宙论事实上使上帝没有存身之处，但梵蒂冈教廷仍对他表示了敬意。在承认了对伽利略审判的错误之后，教廷科学院又选举霍金为该院院士。世俗的偏见和神学的权威，都不能阻挡科学的透射力。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霍金坚信，关于宇宙的起源和命运的基本思想可以不用数学来陈述，而且没有受过专业训练的人也能理解。他曾在通俗演讲里，生动地向听众解释“利用光速，从‘黑洞’进去，从‘白洞’到宇宙另一区域去作时空旅行”的设计，是有趣的科学幻想，而现实却是难以做到的简明道理。经过数年的辛勤写作和修改，于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1988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月正式出版宇宙论科普著作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《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时间简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》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。书中引导读者遨游外层空间奇异领域，对遥远星系、黑洞、夸克、大统一理论、“带味”粒子和“自旋”的粒子、反物质、“时间箭头”等进行探索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《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时间简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》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，已用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33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种文字发行了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550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万册，如今在西方，自称受过教育的人若没有读过这本书，会被人看不起。 医生曾诊断身患绝症的霍金只能活两年，他之所以能支持到今天并取得卓越成就，最主要的是他具有强烈的使命感和极其坚强的意志。霍金的一生，是人类意志力的记录，是科学精神创造的奇迹。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D32EC-6F0C-4D5B-AAA3-E664D4EFE6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865A1-FBF4-4D96-9B41-0477D484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D8680-A4F4-4C2C-B466-A9DBDA77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AD257-B221-4237-8E06-972FFAC7C2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53181-C751-4303-ACCE-0D4189C5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F1309-EFDA-482E-962C-50DFF8A5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E6814-2955-4687-87D5-A6E8C28F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D7A3A-85EE-4A1A-83F7-3F05E6B5A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040DE-506F-4AD5-B1C3-D094E6209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7B9D1-D177-41DD-9743-3752EA1F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81267-2424-4DBE-BD65-7F77A150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F06D3-5F80-484C-96B1-3BE2AB1F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1388-70A4-4ED8-86B2-AD1BB3BD45C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7343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颅脑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rcRect l="6384" t="6746" r="7648" b="6746"/>
          <a:stretch/>
        </p:blipFill>
        <p:spPr>
          <a:xfrm flipH="1" rot="16200000">
            <a:off x="574560" y="4544640"/>
            <a:ext cx="1941480" cy="2300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3" name="Text Box 5"/>
          <p:cNvSpPr/>
          <p:nvPr/>
        </p:nvSpPr>
        <p:spPr>
          <a:xfrm>
            <a:off x="6227640" y="56610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乌建平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Oval 2"/>
          <p:cNvSpPr/>
          <p:nvPr/>
        </p:nvSpPr>
        <p:spPr>
          <a:xfrm>
            <a:off x="3695760" y="26128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db52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Oval 3"/>
          <p:cNvSpPr/>
          <p:nvPr/>
        </p:nvSpPr>
        <p:spPr>
          <a:xfrm>
            <a:off x="3807000" y="272268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786213"/>
              </a:gs>
              <a:gs pos="50000">
                <a:srgbClr val="ddb523"/>
              </a:gs>
              <a:gs pos="100000">
                <a:srgbClr val="7862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Oval 4"/>
          <p:cNvSpPr/>
          <p:nvPr/>
        </p:nvSpPr>
        <p:spPr>
          <a:xfrm>
            <a:off x="3881520" y="27972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8" name="Group 5"/>
          <p:cNvGrpSpPr/>
          <p:nvPr/>
        </p:nvGrpSpPr>
        <p:grpSpPr>
          <a:xfrm>
            <a:off x="839880" y="1441440"/>
            <a:ext cx="6843600" cy="3886200"/>
            <a:chOff x="839880" y="1441440"/>
            <a:chExt cx="6843600" cy="3886200"/>
          </a:xfrm>
        </p:grpSpPr>
        <p:sp>
          <p:nvSpPr>
            <p:cNvPr id="169" name="AutoShape 6"/>
            <p:cNvSpPr/>
            <p:nvPr/>
          </p:nvSpPr>
          <p:spPr>
            <a:xfrm rot="17973000">
              <a:off x="4763880" y="2256480"/>
              <a:ext cx="792000" cy="308160"/>
            </a:xfrm>
            <a:prstGeom prst="rightArrow">
              <a:avLst>
                <a:gd name="adj1" fmla="val 35167"/>
                <a:gd name="adj2" fmla="val 10407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AutoShape 7"/>
            <p:cNvSpPr/>
            <p:nvPr/>
          </p:nvSpPr>
          <p:spPr>
            <a:xfrm rot="3465600">
              <a:off x="4818240" y="4366080"/>
              <a:ext cx="792360" cy="308160"/>
            </a:xfrm>
            <a:prstGeom prst="rightArrow">
              <a:avLst>
                <a:gd name="adj1" fmla="val 35167"/>
                <a:gd name="adj2" fmla="val 104124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AutoShape 8"/>
            <p:cNvSpPr/>
            <p:nvPr/>
          </p:nvSpPr>
          <p:spPr>
            <a:xfrm rot="14368800">
              <a:off x="3517560" y="2278800"/>
              <a:ext cx="792000" cy="308160"/>
            </a:xfrm>
            <a:prstGeom prst="rightArrow">
              <a:avLst>
                <a:gd name="adj1" fmla="val 35167"/>
                <a:gd name="adj2" fmla="val 10407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AutoShape 9"/>
            <p:cNvSpPr/>
            <p:nvPr/>
          </p:nvSpPr>
          <p:spPr>
            <a:xfrm rot="7534800">
              <a:off x="3476520" y="4332960"/>
              <a:ext cx="792000" cy="307800"/>
            </a:xfrm>
            <a:prstGeom prst="rightArrow">
              <a:avLst>
                <a:gd name="adj1" fmla="val 35167"/>
                <a:gd name="adj2" fmla="val 104198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AutoShape 10"/>
            <p:cNvSpPr/>
            <p:nvPr/>
          </p:nvSpPr>
          <p:spPr>
            <a:xfrm>
              <a:off x="5409720" y="3340080"/>
              <a:ext cx="844920" cy="289080"/>
            </a:xfrm>
            <a:prstGeom prst="rightArrow">
              <a:avLst>
                <a:gd name="adj1" fmla="val 35167"/>
                <a:gd name="adj2" fmla="val 118359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AutoShape 11"/>
            <p:cNvSpPr/>
            <p:nvPr/>
          </p:nvSpPr>
          <p:spPr>
            <a:xfrm rot="10800000">
              <a:off x="2838600" y="3333240"/>
              <a:ext cx="920880" cy="289080"/>
            </a:xfrm>
            <a:prstGeom prst="rightArrow">
              <a:avLst>
                <a:gd name="adj1" fmla="val 35167"/>
                <a:gd name="adj2" fmla="val 129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12"/>
            <p:cNvSpPr/>
            <p:nvPr/>
          </p:nvSpPr>
          <p:spPr>
            <a:xfrm>
              <a:off x="2540160" y="1582560"/>
              <a:ext cx="3993840" cy="3745080"/>
            </a:xfrm>
            <a:prstGeom prst="ellipse">
              <a:avLst/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Text Box 13"/>
            <p:cNvSpPr/>
            <p:nvPr/>
          </p:nvSpPr>
          <p:spPr>
            <a:xfrm>
              <a:off x="6040440" y="1441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脑挫裂伤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Text Box 14"/>
            <p:cNvSpPr/>
            <p:nvPr/>
          </p:nvSpPr>
          <p:spPr>
            <a:xfrm>
              <a:off x="1424520" y="14414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原发性脑干损伤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Text Box 15"/>
            <p:cNvSpPr/>
            <p:nvPr/>
          </p:nvSpPr>
          <p:spPr>
            <a:xfrm>
              <a:off x="6954120" y="3193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脑震荡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Text Box 16"/>
            <p:cNvSpPr/>
            <p:nvPr/>
          </p:nvSpPr>
          <p:spPr>
            <a:xfrm>
              <a:off x="839880" y="3193920"/>
              <a:ext cx="150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颅内血肿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Text Box 17"/>
            <p:cNvSpPr/>
            <p:nvPr/>
          </p:nvSpPr>
          <p:spPr>
            <a:xfrm>
              <a:off x="1343160" y="47322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弥漫性轴索损伤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Oval 18"/>
            <p:cNvSpPr/>
            <p:nvPr/>
          </p:nvSpPr>
          <p:spPr>
            <a:xfrm>
              <a:off x="2387880" y="3360600"/>
              <a:ext cx="32472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Oval 19"/>
            <p:cNvSpPr/>
            <p:nvPr/>
          </p:nvSpPr>
          <p:spPr>
            <a:xfrm>
              <a:off x="3363480" y="1709640"/>
              <a:ext cx="32472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Oval 20"/>
            <p:cNvSpPr/>
            <p:nvPr/>
          </p:nvSpPr>
          <p:spPr>
            <a:xfrm>
              <a:off x="5395680" y="1709640"/>
              <a:ext cx="32508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Oval 21"/>
            <p:cNvSpPr/>
            <p:nvPr/>
          </p:nvSpPr>
          <p:spPr>
            <a:xfrm>
              <a:off x="3282120" y="4910040"/>
              <a:ext cx="31824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Oval 22"/>
            <p:cNvSpPr/>
            <p:nvPr/>
          </p:nvSpPr>
          <p:spPr>
            <a:xfrm>
              <a:off x="5395680" y="4910040"/>
              <a:ext cx="32508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Oval 23"/>
            <p:cNvSpPr/>
            <p:nvPr/>
          </p:nvSpPr>
          <p:spPr>
            <a:xfrm>
              <a:off x="6371280" y="3348000"/>
              <a:ext cx="32508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Oval 24"/>
            <p:cNvSpPr/>
            <p:nvPr/>
          </p:nvSpPr>
          <p:spPr>
            <a:xfrm>
              <a:off x="3651120" y="2611440"/>
              <a:ext cx="1817280" cy="1687680"/>
            </a:xfrm>
            <a:prstGeom prst="ellipse">
              <a:avLst/>
            </a:prstGeom>
            <a:gradFill rotWithShape="0">
              <a:gsLst>
                <a:gs pos="0">
                  <a:srgbClr val="ddb52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Oval 25"/>
            <p:cNvSpPr/>
            <p:nvPr/>
          </p:nvSpPr>
          <p:spPr>
            <a:xfrm>
              <a:off x="3815640" y="2757600"/>
              <a:ext cx="1580040" cy="1466640"/>
            </a:xfrm>
            <a:prstGeom prst="ellipse">
              <a:avLst/>
            </a:prstGeom>
            <a:gradFill rotWithShape="0">
              <a:gsLst>
                <a:gs pos="0">
                  <a:srgbClr val="8c7316"/>
                </a:gs>
                <a:gs pos="100000">
                  <a:srgbClr val="ddb52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9" name="Group 26"/>
            <p:cNvGrpSpPr/>
            <p:nvPr/>
          </p:nvGrpSpPr>
          <p:grpSpPr>
            <a:xfrm>
              <a:off x="3869640" y="2816280"/>
              <a:ext cx="1376640" cy="1278000"/>
              <a:chOff x="3869640" y="2816280"/>
              <a:chExt cx="1376640" cy="1278000"/>
            </a:xfrm>
          </p:grpSpPr>
          <p:sp>
            <p:nvSpPr>
              <p:cNvPr id="190" name="Oval 27"/>
              <p:cNvSpPr/>
              <p:nvPr/>
            </p:nvSpPr>
            <p:spPr>
              <a:xfrm>
                <a:off x="3869640" y="2816280"/>
                <a:ext cx="137664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Oval 28"/>
              <p:cNvSpPr/>
              <p:nvPr/>
            </p:nvSpPr>
            <p:spPr>
              <a:xfrm>
                <a:off x="3886920" y="2823120"/>
                <a:ext cx="134352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Oval 29"/>
              <p:cNvSpPr/>
              <p:nvPr/>
            </p:nvSpPr>
            <p:spPr>
              <a:xfrm>
                <a:off x="3901320" y="2835720"/>
                <a:ext cx="127764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Oval 30"/>
              <p:cNvSpPr/>
              <p:nvPr/>
            </p:nvSpPr>
            <p:spPr>
              <a:xfrm>
                <a:off x="3976200" y="2868120"/>
                <a:ext cx="113580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4" name="Text Box 31"/>
            <p:cNvSpPr/>
            <p:nvPr/>
          </p:nvSpPr>
          <p:spPr>
            <a:xfrm>
              <a:off x="4105440" y="306864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脑外伤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要类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5" name="Text Box 32"/>
          <p:cNvSpPr/>
          <p:nvPr/>
        </p:nvSpPr>
        <p:spPr>
          <a:xfrm>
            <a:off x="5940360" y="4797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8134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发性颅脑损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震荡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伤后立即发生短暂的意识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清醒后多数患者有近事性遗忘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神经系统检查无阳性特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检查颅内无异常发现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发性颅脑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挫裂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同程度的意识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损伤部位相关的局灶症状和体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偏瘫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失语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颅内压增高的症状与体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检查可了解损伤部位、范围、脑水肿程度及中线结构移位情况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发性颅脑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弥漫性轴索损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脑实质的弥漫性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表现为广泛的脑挫裂伤，伴以点、片状出血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伤后通常立即昏迷，而且昏迷程度深、持续时间长，一般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无中间意识清醒（或好转）期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T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RI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检查显示弥漫性脑肿胀，灰质和白质界限不清，脑室脑池受压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占位效应常轻微，中线移位不明显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所引起的病理改变常难以恢复，死亡率高，常导致脑外伤患者伤后植物生存状态和严重神经功能障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发性颅脑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8000" y="1557360"/>
            <a:ext cx="8424720" cy="42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发性脑干损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脑干表面挫裂伤和脑干内点、片状出血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伤后立即出现意识障碍，特点是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昏迷程度深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持续时间长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恢复过程慢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甚至终生昏迷不醒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早期出现脑干损伤的症状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体征：如呼吸、循环功能紊乱，严重者可迅速导致死亡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MRI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检查有助于明确诊断，了解损伤部位与范围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315861427"/>
          <p:cNvPicPr/>
          <p:nvPr/>
        </p:nvPicPr>
        <p:blipFill>
          <a:blip r:embed="rId1">
            <a:grayscl/>
            <a:lum contrast="36000"/>
          </a:blip>
          <a:srcRect l="71305" t="6227" r="6639" b="50005"/>
          <a:stretch/>
        </p:blipFill>
        <p:spPr>
          <a:xfrm>
            <a:off x="6743880" y="2637000"/>
            <a:ext cx="1428480" cy="17287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继发性颅脑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920" y="1520640"/>
            <a:ext cx="777240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颅内血肿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血肿来源和部位分为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硬膜外血肿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硬膜下血肿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脑内血肿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意识障碍的演变三个阶段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外伤后原发性昏迷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间意识清醒（或好转）期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继发性昏迷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9" name="Picture 5" descr="F67511-007-f016"/>
          <p:cNvPicPr/>
          <p:nvPr/>
        </p:nvPicPr>
        <p:blipFill>
          <a:blip r:embed="rId2"/>
          <a:srcRect l="24814" t="1512" r="25273" b="6551"/>
          <a:stretch/>
        </p:blipFill>
        <p:spPr>
          <a:xfrm>
            <a:off x="6831000" y="4437000"/>
            <a:ext cx="1341360" cy="1656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10" name="AutoShape 6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7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8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3" name="Picture 9" descr="F67511-007-f015b"/>
          <p:cNvPicPr/>
          <p:nvPr/>
        </p:nvPicPr>
        <p:blipFill>
          <a:blip r:embed="rId3">
            <a:lum contrast="6000"/>
          </a:blip>
          <a:srcRect l="27181" t="4574" r="26378" b="10823"/>
          <a:stretch/>
        </p:blipFill>
        <p:spPr>
          <a:xfrm>
            <a:off x="4997520" y="2695680"/>
            <a:ext cx="1401840" cy="1670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42920" y="6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损伤严重程度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格拉斯哥昏迷量表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C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昏迷评分标准（共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以下：昏迷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-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：特重型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-8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：严重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-1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：中度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3-1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：轻度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79640" y="981000"/>
            <a:ext cx="481968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格拉斯哥昏迷量表（</a:t>
            </a:r>
            <a:r>
              <a:rPr b="1" i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GCS</a:t>
            </a:r>
            <a:r>
              <a:rPr b="1" i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684360" y="1557360"/>
            <a:ext cx="777240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内容       标准 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	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	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	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	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     评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睁眼反应      自动睁眼         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听到言语、命令时睁眼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睁眼    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对任何刺激无睁眼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运动反应       能执行简单命令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6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能指出部位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肢体能正常回缩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躯体出现异常屈曲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去皮层状态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)                           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躯体出现异常伸展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去大脑强直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)                           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对刺痛无任何运动反应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言语反应       回答正确        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回答错误        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用词不适当，但尚能理解含义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言语难以理解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无任何言语反应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10920" y="1557000"/>
            <a:ext cx="79930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功能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肌力、关节活动度、肌张力、痉挛、步态分析、平衡功能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神经功能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全盲或偏盲、眼球活动障碍、面神经瘫痪、听力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042920" y="6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02760" y="1374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言语功能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言语错乱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答非所问但语言流畅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失定向：时间、空间、人物定向障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缺乏自知力：否认自己有病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构音障碍：吐词不清、说话费力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命名障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失语：语言中枢受损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1042920" y="6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996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颅脑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颅脑损伤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traumatic brain injury,TBI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指直接或间接的暴力作用于头部，导致意识丧失、记忆丧失和神经功能缺损的伤病，可导致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意识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记忆缺失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神经功能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功能评估：感觉、知觉、注意、记忆、理解、智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记忆障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近期记忆：物品辨认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撤除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回忆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远期记忆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Wechsler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记忆评价试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觉障碍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Rivermed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觉评价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绪行为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情绪障碍：焦虑、抑郁、攻击性、神经过敏、呆傻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行为障碍：冲动、幼稚、丧失自知力、强迫观念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临床处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518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情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意识、瞳孔、生命体征、神经系统体征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特殊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T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RI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C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监测及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EG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脑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P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水肿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脱水药物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手术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症治疗与并发症的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5651640" y="981000"/>
            <a:ext cx="3024000" cy="25066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07"/>
          <p:cNvPicPr/>
          <p:nvPr/>
        </p:nvPicPr>
        <p:blipFill>
          <a:blip r:embed="rId2"/>
          <a:stretch/>
        </p:blipFill>
        <p:spPr>
          <a:xfrm>
            <a:off x="5651640" y="3716280"/>
            <a:ext cx="309708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期康复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目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稳定病情，提高觉醒能力，促进记忆的恢复，预防并发症，促进功能康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药物治疗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利用促进脑组织代谢及循环药物，如三磷腺苷、神经节苷脂、胞磷胆碱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促醒治疗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音乐电疗法，或让最亲近的人定期与患者进行语言交流，通过患者的面部表情或脉搏、呼吸、睁眼等变化观察患者对各种刺激的反应。②针刺百会、人中、内关、涌泉、十二井、十宣穴等。③神经肌肉电刺激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康复护理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良姿位的摆放（见脑卒中的康复），预防压疮，防止坠积性肺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预防肌肉萎缩及关节挛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被动关节活动范围练习，对易于缩短的肌群和软组织进行伸展练习，每天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可保持关节、软组织和肌肉的柔韧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高压氧治疗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高压氧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BO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治疗作为颅脑损伤后重要的无创性治疗手段之一，高压氧能升高血氧浓度，改善脑循环，保持脑血流相对稳定，防止灌注不足或过多，改善脑细胞代谢，有利于减轻继发性损害，促进脑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软瘫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良姿位摆放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被动活动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动活动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痉挛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抗痉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坐位与平衡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9404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平衡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步行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上下楼梯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下肢控制能力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改善手功能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后遗症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健肢、辅助器、步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言语障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失语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听理解、阅读理解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语言表达、书写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构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松弛训练、呼吸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发音训练、发音器官运动训练、语音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功能障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记忆力训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PQRST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法（预习、自问、再阅读、陈述、回答问题）、编故事法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注意力训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猜测游戏、删除游戏、时间感训练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感知力训练：反复认知和使用训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失认症：半侧空间失认、疾病失认、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Gerstmann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综合征（手指认识不能、计算不能、书写不能、左右定向力障碍）、视失认、身体失认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失用症：结构失用、运动失用、穿衣失用、意念和意念运动性失用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解决问题能力训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提取信息、排列数字、物品分类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82560" y="1484280"/>
            <a:ext cx="77724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心理护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感上给予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会面对现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除恐惧、焦虑、抑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鼓励学会生活自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Bobat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疗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异常姿势和运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正确的运动感觉和运动模式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Vojta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疗法（诱导法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对身体一定部位的压迫刺激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诱导产生全身性、协调化的反射性移动运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反射性翻身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反射性腹爬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上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用于痉挛性脑瘫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康复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运动疗法原则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自上而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近及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简单到复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枯燥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运动疗法内容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部控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翻身、坐位、爬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膝立、站立、行走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手功能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716360" y="1484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业疗法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进食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小便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穿脱衣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卫生梳洗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言语障碍矫治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物理疗法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NMES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温热疗法、超声波、水疗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6443640" y="3357720"/>
            <a:ext cx="2015640" cy="2376360"/>
            <a:chOff x="6443640" y="3357720"/>
            <a:chExt cx="2015640" cy="2376360"/>
          </a:xfrm>
        </p:grpSpPr>
        <p:pic>
          <p:nvPicPr>
            <p:cNvPr id="117" name="Picture 3" descr="9ftv7q"/>
            <p:cNvPicPr/>
            <p:nvPr/>
          </p:nvPicPr>
          <p:blipFill>
            <a:blip r:embed="rId1"/>
            <a:stretch/>
          </p:blipFill>
          <p:spPr>
            <a:xfrm>
              <a:off x="6507720" y="3357720"/>
              <a:ext cx="1951560" cy="23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4" descr="9ftv7q"/>
            <p:cNvPicPr/>
            <p:nvPr/>
          </p:nvPicPr>
          <p:blipFill>
            <a:blip r:embed="rId2"/>
            <a:srcRect l="85713" t="85418" r="0" b="0"/>
            <a:stretch/>
          </p:blipFill>
          <p:spPr>
            <a:xfrm>
              <a:off x="6443640" y="3401280"/>
              <a:ext cx="279000" cy="34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病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交通事故、工伤事故、意外坠落、运动损伤、失足跌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难产、手术引产→婴儿颅脑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枪伤、炸伤等火器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矿山事故、地震、建筑物倒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康复教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6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向家长介绍脑瘫的一般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常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瘫患儿正确的卧床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抱患儿的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脑瘫的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8" name="Picture 4" descr="8214"/>
          <p:cNvPicPr/>
          <p:nvPr/>
        </p:nvPicPr>
        <p:blipFill>
          <a:blip r:embed="rId1"/>
          <a:stretch/>
        </p:blipFill>
        <p:spPr>
          <a:xfrm>
            <a:off x="5773680" y="2421000"/>
            <a:ext cx="25434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618a98bf2954fe4bd6e9250f3a9f4b4c"/>
          <p:cNvPicPr/>
          <p:nvPr/>
        </p:nvPicPr>
        <p:blipFill>
          <a:blip r:embed="rId1"/>
          <a:srcRect l="0" t="0" r="0" b="6942"/>
          <a:stretch/>
        </p:blipFill>
        <p:spPr>
          <a:xfrm>
            <a:off x="0" y="0"/>
            <a:ext cx="521964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1_2-1-9-276_2002081272418"/>
          <p:cNvPicPr/>
          <p:nvPr/>
        </p:nvPicPr>
        <p:blipFill>
          <a:blip r:embed="rId2"/>
          <a:srcRect l="0" t="0" r="0" b="1671"/>
          <a:stretch/>
        </p:blipFill>
        <p:spPr>
          <a:xfrm>
            <a:off x="5219640" y="2565360"/>
            <a:ext cx="3948120" cy="429264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280" y="5373360"/>
            <a:ext cx="62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Stephen Hawk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5940360" y="476280"/>
            <a:ext cx="2336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Case 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B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暴力作用于头部的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直接暴力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间接暴力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外伤后脑组织是否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外界相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闭合性脑外伤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放性脑外伤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4" descr="HN157"/>
          <p:cNvPicPr/>
          <p:nvPr/>
        </p:nvPicPr>
        <p:blipFill>
          <a:blip r:embed="rId1"/>
          <a:srcRect l="5830" t="16824" r="2787" b="24383"/>
          <a:stretch/>
        </p:blipFill>
        <p:spPr>
          <a:xfrm>
            <a:off x="5076720" y="2568600"/>
            <a:ext cx="3384720" cy="33116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755640" y="2849400"/>
            <a:ext cx="2788920" cy="2667240"/>
            <a:chOff x="755640" y="2849400"/>
            <a:chExt cx="2788920" cy="2667240"/>
          </a:xfrm>
        </p:grpSpPr>
        <p:sp>
          <p:nvSpPr>
            <p:cNvPr id="126" name="AutoShape 3"/>
            <p:cNvSpPr/>
            <p:nvPr/>
          </p:nvSpPr>
          <p:spPr>
            <a:xfrm>
              <a:off x="755640" y="2849400"/>
              <a:ext cx="2788920" cy="2667240"/>
            </a:xfrm>
            <a:prstGeom prst="roundRect">
              <a:avLst>
                <a:gd name="adj" fmla="val 16667"/>
              </a:avLst>
            </a:prstGeom>
            <a:solidFill>
              <a:srgbClr val="046ca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Text Box 4"/>
            <p:cNvSpPr/>
            <p:nvPr/>
          </p:nvSpPr>
          <p:spPr>
            <a:xfrm>
              <a:off x="871920" y="3049560"/>
              <a:ext cx="248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闭合性脑外伤：头皮、颅骨、硬脑膜至少有一项完整，无脑脊液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8" name="Freeform 5"/>
          <p:cNvSpPr/>
          <p:nvPr/>
        </p:nvSpPr>
        <p:spPr>
          <a:xfrm>
            <a:off x="3338640" y="275256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db523"/>
              </a:gs>
              <a:gs pos="100000">
                <a:srgbClr val="f4e7b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 flipH="1">
            <a:off x="4984920" y="27496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0" name="Group 7"/>
          <p:cNvGrpSpPr/>
          <p:nvPr/>
        </p:nvGrpSpPr>
        <p:grpSpPr>
          <a:xfrm>
            <a:off x="3164040" y="1125360"/>
            <a:ext cx="2998440" cy="1601640"/>
            <a:chOff x="3164040" y="1125360"/>
            <a:chExt cx="2998440" cy="1601640"/>
          </a:xfrm>
        </p:grpSpPr>
        <p:grpSp>
          <p:nvGrpSpPr>
            <p:cNvPr id="131" name="Group 8"/>
            <p:cNvGrpSpPr/>
            <p:nvPr/>
          </p:nvGrpSpPr>
          <p:grpSpPr>
            <a:xfrm>
              <a:off x="3164040" y="1125360"/>
              <a:ext cx="2998440" cy="1601640"/>
              <a:chOff x="3164040" y="1125360"/>
              <a:chExt cx="2998440" cy="1601640"/>
            </a:xfrm>
          </p:grpSpPr>
          <p:grpSp>
            <p:nvGrpSpPr>
              <p:cNvPr id="132" name="Group 9"/>
              <p:cNvGrpSpPr/>
              <p:nvPr/>
            </p:nvGrpSpPr>
            <p:grpSpPr>
              <a:xfrm>
                <a:off x="3164040" y="1268280"/>
                <a:ext cx="2998440" cy="1458720"/>
                <a:chOff x="3164040" y="1268280"/>
                <a:chExt cx="2998440" cy="1458720"/>
              </a:xfrm>
            </p:grpSpPr>
            <p:sp>
              <p:nvSpPr>
                <p:cNvPr id="133" name="Oval 10"/>
                <p:cNvSpPr/>
                <p:nvPr/>
              </p:nvSpPr>
              <p:spPr>
                <a:xfrm>
                  <a:off x="3196800" y="1314720"/>
                  <a:ext cx="2965680" cy="141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b523"/>
                    </a:gs>
                    <a:gs pos="100000">
                      <a:srgbClr val="6b5811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34" name="Oval 11"/>
                <p:cNvSpPr/>
                <p:nvPr/>
              </p:nvSpPr>
              <p:spPr>
                <a:xfrm>
                  <a:off x="3164040" y="1268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0de9e"/>
                    </a:gs>
                    <a:gs pos="100000">
                      <a:srgbClr val="ddb523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" name="Oval 12"/>
              <p:cNvSpPr/>
              <p:nvPr/>
            </p:nvSpPr>
            <p:spPr>
              <a:xfrm>
                <a:off x="3305520" y="1125360"/>
                <a:ext cx="2684520" cy="1341720"/>
              </a:xfrm>
              <a:prstGeom prst="ellipse">
                <a:avLst/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6" name="Oval 13"/>
              <p:cNvSpPr/>
              <p:nvPr/>
            </p:nvSpPr>
            <p:spPr>
              <a:xfrm>
                <a:off x="3340440" y="1133280"/>
                <a:ext cx="2619360" cy="1308240"/>
              </a:xfrm>
              <a:prstGeom prst="ellipse">
                <a:avLst/>
              </a:prstGeom>
              <a:gradFill rotWithShape="0">
                <a:gsLst>
                  <a:gs pos="0">
                    <a:srgbClr val="8ac8de">
                      <a:alpha val="0"/>
                    </a:srgbClr>
                  </a:gs>
                  <a:gs pos="100000">
                    <a:srgbClr val="d6ecf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7" name="Oval 14"/>
              <p:cNvSpPr/>
              <p:nvPr/>
            </p:nvSpPr>
            <p:spPr>
              <a:xfrm>
                <a:off x="3367440" y="1146240"/>
                <a:ext cx="2492280" cy="1222200"/>
              </a:xfrm>
              <a:prstGeom prst="ellipse">
                <a:avLst/>
              </a:prstGeom>
              <a:gradFill rotWithShape="0">
                <a:gsLst>
                  <a:gs pos="0">
                    <a:srgbClr val="6d9eb0"/>
                  </a:gs>
                  <a:gs pos="100000">
                    <a:srgbClr val="8ac8de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8" name="Oval 15"/>
              <p:cNvSpPr/>
              <p:nvPr/>
            </p:nvSpPr>
            <p:spPr>
              <a:xfrm>
                <a:off x="3499200" y="1173240"/>
                <a:ext cx="2193840" cy="990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ac8de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9" name="Text Box 16"/>
            <p:cNvSpPr/>
            <p:nvPr/>
          </p:nvSpPr>
          <p:spPr>
            <a:xfrm>
              <a:off x="3882960" y="13064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是否与外界相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0" name="Group 17"/>
          <p:cNvGrpSpPr/>
          <p:nvPr/>
        </p:nvGrpSpPr>
        <p:grpSpPr>
          <a:xfrm>
            <a:off x="5678640" y="2849400"/>
            <a:ext cx="2709360" cy="2667240"/>
            <a:chOff x="5678640" y="2849400"/>
            <a:chExt cx="2709360" cy="2667240"/>
          </a:xfrm>
        </p:grpSpPr>
        <p:sp>
          <p:nvSpPr>
            <p:cNvPr id="141" name="AutoShape 18"/>
            <p:cNvSpPr/>
            <p:nvPr/>
          </p:nvSpPr>
          <p:spPr>
            <a:xfrm>
              <a:off x="5678640" y="2849400"/>
              <a:ext cx="2709360" cy="2667240"/>
            </a:xfrm>
            <a:prstGeom prst="roundRect">
              <a:avLst>
                <a:gd name="adj" fmla="val 16667"/>
              </a:avLst>
            </a:prstGeom>
            <a:solidFill>
              <a:srgbClr val="046ca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19"/>
            <p:cNvSpPr/>
            <p:nvPr/>
          </p:nvSpPr>
          <p:spPr>
            <a:xfrm>
              <a:off x="5881680" y="3078000"/>
              <a:ext cx="241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开放性脑外伤：头皮、颅骨、硬脑膜均有破损，颅腔与外界沟通，有脑脊液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Freeform 20"/>
          <p:cNvSpPr/>
          <p:nvPr/>
        </p:nvSpPr>
        <p:spPr>
          <a:xfrm flipH="1">
            <a:off x="4990320" y="275256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daee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84000" y="981000"/>
            <a:ext cx="26146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闭合性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原发性脑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暴力作用于头部时直接造成的脑损害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16360" y="148392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继发性脑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受伤一定时间后在原发性损伤基础上出现的脑病变，主要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脑水肿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颅内血肿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脑压增高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脑移位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脑疝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5" descr="81208716_snap"/>
          <p:cNvPicPr/>
          <p:nvPr/>
        </p:nvPicPr>
        <p:blipFill>
          <a:blip r:embed="rId1"/>
          <a:stretch/>
        </p:blipFill>
        <p:spPr>
          <a:xfrm>
            <a:off x="611280" y="3638520"/>
            <a:ext cx="3081240" cy="23115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1258920" y="1557360"/>
            <a:ext cx="7200360" cy="3664080"/>
            <a:chOff x="1258920" y="1557360"/>
            <a:chExt cx="7200360" cy="3664080"/>
          </a:xfrm>
        </p:grpSpPr>
        <p:sp>
          <p:nvSpPr>
            <p:cNvPr id="151" name="AutoShape 3"/>
            <p:cNvSpPr/>
            <p:nvPr/>
          </p:nvSpPr>
          <p:spPr>
            <a:xfrm>
              <a:off x="1258920" y="1557360"/>
              <a:ext cx="3895200" cy="3664080"/>
            </a:xfrm>
            <a:custGeom>
              <a:avLst/>
              <a:gdLst>
                <a:gd name="textAreaLeft" fmla="*/ 570960 w 3895200"/>
                <a:gd name="textAreaRight" fmla="*/ 3324240 w 3895200"/>
                <a:gd name="textAreaTop" fmla="*/ 536760 h 3664080"/>
                <a:gd name="textAreaBottom" fmla="*/ 3127320 h 366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914" y="10800"/>
                  </a:moveTo>
                  <a:cubicBezTo>
                    <a:pt x="1914" y="15708"/>
                    <a:pt x="5892" y="19686"/>
                    <a:pt x="10800" y="19686"/>
                  </a:cubicBezTo>
                  <a:cubicBezTo>
                    <a:pt x="15708" y="19686"/>
                    <a:pt x="19686" y="15708"/>
                    <a:pt x="19686" y="10800"/>
                  </a:cubicBezTo>
                  <a:cubicBezTo>
                    <a:pt x="19686" y="5892"/>
                    <a:pt x="15708" y="1914"/>
                    <a:pt x="10800" y="1914"/>
                  </a:cubicBezTo>
                  <a:cubicBezTo>
                    <a:pt x="5892" y="1914"/>
                    <a:pt x="1914" y="5892"/>
                    <a:pt x="1914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b8deeb">
                    <a:alpha val="12156"/>
                  </a:srgbClr>
                </a:gs>
                <a:gs pos="50000">
                  <a:srgbClr val="8ac8de"/>
                </a:gs>
                <a:gs pos="100000">
                  <a:srgbClr val="b8deeb">
                    <a:alpha val="1215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Oval 4"/>
            <p:cNvSpPr/>
            <p:nvPr/>
          </p:nvSpPr>
          <p:spPr>
            <a:xfrm>
              <a:off x="1568520" y="1846800"/>
              <a:ext cx="3251880" cy="3054240"/>
            </a:xfrm>
            <a:prstGeom prst="ellipse">
              <a:avLst/>
            </a:prstGeom>
            <a:gradFill rotWithShape="0">
              <a:gsLst>
                <a:gs pos="0">
                  <a:srgbClr val="c5a9c7"/>
                </a:gs>
                <a:gs pos="100000">
                  <a:srgbClr val="99669b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utoShape 5"/>
            <p:cNvSpPr/>
            <p:nvPr/>
          </p:nvSpPr>
          <p:spPr>
            <a:xfrm>
              <a:off x="4012200" y="1872720"/>
              <a:ext cx="3842280" cy="477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f8fcfd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意识障碍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AutoShape 6"/>
            <p:cNvSpPr/>
            <p:nvPr/>
          </p:nvSpPr>
          <p:spPr>
            <a:xfrm>
              <a:off x="4347720" y="2505600"/>
              <a:ext cx="3842280" cy="476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0f0f0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认知功能障碍</a:t>
              </a:r>
              <a:r>
                <a:rPr b="0" lang="zh-CN" sz="18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AutoShape 7"/>
            <p:cNvSpPr/>
            <p:nvPr/>
          </p:nvSpPr>
          <p:spPr>
            <a:xfrm>
              <a:off x="4618440" y="3136680"/>
              <a:ext cx="3840840" cy="477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f8fcfd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运动功能障碍</a:t>
              </a:r>
              <a:r>
                <a:rPr b="0" lang="zh-CN" sz="18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8"/>
            <p:cNvSpPr/>
            <p:nvPr/>
          </p:nvSpPr>
          <p:spPr>
            <a:xfrm>
              <a:off x="4347720" y="3767760"/>
              <a:ext cx="3842280" cy="477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0f0f0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言语障碍</a:t>
              </a:r>
              <a:r>
                <a:rPr b="0" lang="zh-CN" sz="1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9"/>
            <p:cNvSpPr/>
            <p:nvPr/>
          </p:nvSpPr>
          <p:spPr>
            <a:xfrm>
              <a:off x="4012200" y="4400640"/>
              <a:ext cx="3842280" cy="477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f8fcfd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行为障碍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Text Box 10"/>
            <p:cNvSpPr/>
            <p:nvPr/>
          </p:nvSpPr>
          <p:spPr>
            <a:xfrm>
              <a:off x="2223360" y="2353680"/>
              <a:ext cx="1949760" cy="1702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颅脑损伤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主要障碍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颅脑损伤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眼部征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瞳孔大小、光反射、眼球活动、眼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侧瞳孔缩小→散大，光反射迟钝；另一侧正常，提示小脑幕切迹疝；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双侧瞳孔均散大，光反射消失：濒危状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视乳头水肿、视神经萎缩：颅内高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颅脑损伤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211280" y="1267920"/>
            <a:ext cx="460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Verdana"/>
                <a:ea typeface="宋体"/>
              </a:rPr>
              <a:t>大脑镰下疝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一侧大脑半球的扣带回经镰下孔被挤入对侧分腔，称为大脑镰下疝或扣带回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Verdana"/>
                <a:ea typeface="宋体"/>
              </a:rPr>
              <a:t>枕骨大孔疝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幕下的小脑扁桃体及延髓经枕骨大孔被挤向椎管内，称枕骨大孔疝或小脑扁桃体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Verdana"/>
                <a:ea typeface="宋体"/>
              </a:rPr>
              <a:t>小脑幕切迹疝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幕上的脑组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颞叶的海马回、钩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)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通过小脑幕切迹被挤向幕下，称为小脑幕切迹疝或颞叶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3" name="Picture 4" descr="Herniation Syndromes"/>
          <p:cNvPicPr/>
          <p:nvPr/>
        </p:nvPicPr>
        <p:blipFill>
          <a:blip r:embed="rId1"/>
          <a:stretch/>
        </p:blipFill>
        <p:spPr>
          <a:xfrm>
            <a:off x="684360" y="2133720"/>
            <a:ext cx="3187440" cy="41749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  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药蓉</cp:lastModifiedBy>
  <cp:lastPrinted>1899-12-30T00:00:00Z</cp:lastPrinted>
  <dcterms:modified xsi:type="dcterms:W3CDTF">2015-05-26T06:26:36Z</dcterms:modified>
  <cp:revision>2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